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C01-68C8-403C-8286-A5E8D706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18B-262C-4DDA-A9EF-0244798B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D13-8FFA-41E9-AB6D-569F0722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6A8-0662-4017-9802-39F30522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5E5-A045-4145-B53A-A592760D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E3C-DBE1-4385-A885-21213645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FCA-B52B-4411-93D1-AED16EF4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5F3-5BD2-4E2C-9AA9-96B4C604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0E5-F536-405D-BB46-BBD8E3B6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5FD-08E4-4324-AEB1-FC8DD1E2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D19-C2F5-4FAA-803F-74ED2673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035-3694-49DB-8C53-E8A5C65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C517-DDEF-44D7-B410-D50A9A42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28960" y="609480"/>
            <a:ext cx="9372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Maiandra GD"/>
              </a:rPr>
              <a:t>Mr. Shulman Uses a Document Camer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3837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acher Us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plaining Letter to Legislator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explaining how to fill out the outline. I emphasize certain words, and provide examples for som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acher Use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laining the Electoral Colle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showing the electoral college map and explaining one of the tasks my students need to accomp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acher Us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plaining the Federal Budge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going over a Webquest with my AP students. I am writing down answers to student responses. We also discussed vocabulary and I asked many follow up questions about student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Us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llaborative Groups Debating the Electoral Colle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orked in groups to come up with 3 arguments For/Against using the Electoral college. The paper for each group was put on the document camera to display the list to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U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Students Explaining Presidential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presented the meaning of a variety of presidential powers to the class. After conducting their research, students used the document camera to visualize different types of presidential pow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5:42:14Z</dcterms:created>
  <dc:creator>William.Shulman</dc:creator>
  <dc:description/>
  <dc:language>en-US</dc:language>
  <cp:lastModifiedBy>William.Shulman</cp:lastModifiedBy>
  <dcterms:modified xsi:type="dcterms:W3CDTF">2009-01-26T14:20:33Z</dcterms:modified>
  <cp:revision>8</cp:revision>
  <dc:subject/>
  <dc:title>Mr. Shulman Uses a Document Camera</dc:title>
</cp:coreProperties>
</file>